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05BEC-9DFD-4305-8D97-B8C178698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6A11D-EA2B-4081-B89B-30C13AE27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F78B2-1A76-40CB-831B-B103DC877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1DEBC-BDEB-441B-B048-E5931EE37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D93FB-56A9-4E36-A30C-3BF2AE6E4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4B8FD-C54B-4225-B8FC-CEF897550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C9143-30CE-4458-84BE-B0376DE2F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D58A5-4B95-4C3D-8E93-90E961FF8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8C59C-3C04-4F57-B69B-31A0879B9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8D727-55C6-4D2C-AE51-4101082A3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2FBC7-6E54-4371-B1C8-DEA58E532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49F3B-28D2-422D-B0DE-74C8AAF0C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2318B-A6C9-44F1-A772-C80038FF0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C133F-793B-4F6C-BE81-83CA43820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D59B1-5023-45FC-96FA-5F540D72F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8B49E-5F30-4A7F-B37E-CEC11B01A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7150F-BCA4-4ADF-A385-5F7AC28C6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C1F73-492D-43DF-8769-A78DAF38D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A3DB5-366D-4ABF-8B3D-68D66ED97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FDD44-F4DF-4937-818B-C6C351D11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2F4CF-49C2-43BA-896E-0E72830C0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382AD-F2C4-4A3C-A498-C4D5104B9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BF19A-2E1B-4342-BBF9-5498BAA3D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3DE1A-749B-406A-AE98-2EA6B3AB4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8D467-2B92-4398-8C9E-CF8C5A4E23E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745F0-79FE-480C-9E58-BEACD104EDC1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wikifreccia.wikispaces.com/" TargetMode="External"/><Relationship Id="rId2" Type="http://schemas.openxmlformats.org/officeDocument/2006/relationships/hyperlink" Target="mailto:frecciab@christina.k12.de.us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Welcome to E105!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r. Frecc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cial Studies Department Chai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udent Government Advis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The Board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dat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ssential Question for the class perio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pcoming assignments / due dat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day’s bell schedu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tebook overview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nit or Marking Period Calenda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When Mr. Freccia is absen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fo will always be on the boar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W due at the beginning (if you turn it in later the sub is told not to accept it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W due at the end (even if you aren</a:t>
            </a:r>
            <a:r>
              <a:rPr b="0" lang="ja-JP" sz="3200" spc="-1" strike="noStrike">
                <a:solidFill>
                  <a:srgbClr val="ffffff"/>
                </a:solidFill>
                <a:latin typeface="Tahoma"/>
              </a:rPr>
              <a:t>’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 done with the assignment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is due the following class is still due (follow the calendar!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How I can help you…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66"/>
                </a:solidFill>
                <a:uFillTx/>
                <a:latin typeface="Tahoma"/>
                <a:hlinkClick r:id="rId1"/>
              </a:rPr>
              <a:t>www.wikifreccia.wikispaces.co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mail: </a:t>
            </a:r>
            <a:r>
              <a:rPr b="0" lang="en-US" sz="3200" spc="-1" strike="noStrike" u="sng">
                <a:solidFill>
                  <a:srgbClr val="ffcc66"/>
                </a:solidFill>
                <a:uFillTx/>
                <a:latin typeface="Tahoma"/>
                <a:hlinkClick r:id="rId2"/>
              </a:rPr>
              <a:t>frecciab@christina.k12.de.u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en am I here?  6:30am to 3:30pm M-F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lanning Periods:  Period 5 (Black) and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eriod 6 (Gold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dvisory: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11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Introductions</a:t>
            </a:r>
            <a:br>
              <a:rPr sz="4400"/>
            </a:br>
            <a:r>
              <a:rPr b="0" lang="en-US" sz="2400" spc="-1" strike="noStrike">
                <a:solidFill>
                  <a:srgbClr val="dbbd71"/>
                </a:solidFill>
                <a:latin typeface="Arial"/>
              </a:rPr>
              <a:t>…because a little bragging doesn’t hurt</a:t>
            </a:r>
            <a:endParaRPr b="0" lang="en-US" sz="2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bout Mr. Freccia (and why he rocks!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cKean High School (1998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niversity of Delaware (2002 and 2005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arted at Newark in 200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udent Government advisor (since 2004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partment Chair (since 2009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eacher of the Year in 2009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ublished historian, award winning teach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Mr. Freccia</a:t>
            </a:r>
            <a:r>
              <a:rPr b="0" lang="ja-JP" sz="4400" spc="-1" strike="noStrike">
                <a:solidFill>
                  <a:srgbClr val="dbbd71"/>
                </a:solidFill>
                <a:latin typeface="Arial"/>
              </a:rPr>
              <a:t>’</a:t>
            </a: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s Quirks</a:t>
            </a:r>
            <a:br>
              <a:rPr sz="4400"/>
            </a:br>
            <a:r>
              <a:rPr b="0" lang="en-US" sz="2400" spc="-1" strike="noStrike">
                <a:solidFill>
                  <a:srgbClr val="dbbd71"/>
                </a:solidFill>
                <a:latin typeface="Arial"/>
              </a:rPr>
              <a:t>…just so you don’t get the wrong idea.</a:t>
            </a:r>
            <a:endParaRPr b="0" lang="en-US" sz="2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412640"/>
            <a:ext cx="85345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tensity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narky sarcas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ye Roll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kes his job seriously…and I’m a NERD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ccasionally short temper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n be impati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ffort is importa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y should I care if you don’t?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 WANT TO CARE – give me a reason to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Why you should care</a:t>
            </a:r>
            <a:br>
              <a:rPr sz="4400"/>
            </a:br>
            <a:r>
              <a:rPr b="0" lang="en-US" sz="2400" spc="-1" strike="noStrike">
                <a:solidFill>
                  <a:srgbClr val="dbbd71"/>
                </a:solidFill>
                <a:latin typeface="Arial"/>
              </a:rPr>
              <a:t>…not just about Social Studies, but school in general</a:t>
            </a:r>
            <a:endParaRPr b="0" lang="en-US" sz="2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89917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unior year is the critical year if you are planning to go to colleg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pportunity is knocking, are you going to answer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laying sports requires a 2.0 GP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 one wins by being academically ineligib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i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nior year activities only available to 12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graders (not “slashers”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3" descr=""/>
          <p:cNvPicPr/>
          <p:nvPr/>
        </p:nvPicPr>
        <p:blipFill>
          <a:blip r:embed="rId1"/>
          <a:srcRect l="0" t="10758" r="41999" b="0"/>
          <a:stretch/>
        </p:blipFill>
        <p:spPr>
          <a:xfrm>
            <a:off x="484200" y="15840"/>
            <a:ext cx="8318520" cy="684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3" descr=""/>
          <p:cNvPicPr/>
          <p:nvPr/>
        </p:nvPicPr>
        <p:blipFill>
          <a:blip r:embed="rId1"/>
          <a:srcRect l="43853" t="9050" r="0" b="0"/>
          <a:stretch/>
        </p:blipFill>
        <p:spPr>
          <a:xfrm>
            <a:off x="633240" y="14400"/>
            <a:ext cx="7901280" cy="68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assroom Rule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8915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eep the background noise dow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60960" indent="-25416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stracting for me, distracting for oth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ot to leave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60960" indent="-25416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gn-out and take the pass (MP limit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e prepared, be on tim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lectronic devic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sk spa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60960" indent="-25416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You doodle, you clean all the desk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od / drin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60960" indent="-25416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eep it down and clean it up (or privilege is lost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Student expectation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8915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ke results, not excus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5% of success is being here to lear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eat others with respec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ow my teacher to teac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ow others to lear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pect proper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 responsible for my act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 responsible for my own learn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ways remember to be awesom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Around the room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ssigned sea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r. Freccia</a:t>
            </a:r>
            <a:r>
              <a:rPr b="0" lang="ja-JP" sz="3200" spc="-1" strike="noStrike">
                <a:solidFill>
                  <a:srgbClr val="ffffff"/>
                </a:solidFill>
                <a:latin typeface="Tahoma"/>
              </a:rPr>
              <a:t>’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 devices and gadge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ere make-up work is locat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ere your graded work will b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encil Sharpen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Bookshelv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y “wallpaper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rash and recycle bi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mergency proced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1T19:36:42Z</dcterms:created>
  <dc:creator>Brent J. Freccia</dc:creator>
  <dc:description/>
  <dc:language>en-US</dc:language>
  <cp:lastModifiedBy>End User</cp:lastModifiedBy>
  <dcterms:modified xsi:type="dcterms:W3CDTF">2013-08-26T00:28:06Z</dcterms:modified>
  <cp:revision>45</cp:revision>
  <dc:subject/>
  <dc:title>Welcome to E105!</dc:title>
</cp:coreProperties>
</file>